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2680-DE88-4A5E-B271-9608223EC8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087E-99BF-4A60-9B07-6C61812018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AD17-4761-4F38-8A08-DF3B1D8064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5AA6-FBB9-436C-AB56-A8366E378B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AD01-4723-4E5E-BD88-3405A15B5E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83C9-EEB9-4BC2-B1B1-137602E782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2CA-1E38-40D1-9FE7-467251F4A3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F3A8-D4F7-43B0-A33D-734378CE529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220B-780F-439D-A070-8209ABFAA6C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C808-77EF-4E94-91E3-F99D7E7F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464-2C58-451F-9493-BB815AFC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2D6-AA9B-4876-80CC-CB8B43BC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814-0DA0-41BC-9E13-2E61E31C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2ED9-9F3A-44CF-BAB9-F245212F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162B-F59B-45E6-A9C9-B3C5FB08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E4A6-44A4-49BB-BF0D-23634BA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D45F-3A56-4CB5-AC80-868F8B5D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55A2-D951-491C-97FA-90218E6B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613-CAA9-45E8-A370-952711A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B7C7-C579-4FE6-9B92-14082B0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3AB-AF33-4610-9CCF-8C765D4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247F-6335-4FFB-8D3F-B3AE6CD2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5BB-8FC9-4734-9F92-0CBDCC4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AE14-D65C-41F6-A2A6-8C1CBCE4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1B2A-3BE3-45A3-8C3D-46325DA0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7746-B29D-4502-B712-A65D4171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7B47-BD85-43E4-B4B9-4AED7B1B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21D5A-71E7-43D5-BA95-D19363A1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C7BDE-435B-4661-9379-2627F6CF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1D9B-BB8F-4CDC-8EDA-EC122DF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34AC9-B355-4B12-85E9-2234341C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167-0ADC-4405-83AF-AD5AD077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850C-1C4A-41CE-9C80-8A8265E6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374A-8772-45A0-87A9-96ACE7E9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BDDE-1051-4C79-BACC-933978C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95F0-0E68-433D-AB5B-BC96A9C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0046A-3BDD-4045-B0D1-D85941A4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6321-F036-4B8B-8AD4-96FEF7F6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D1640-4B19-4B57-8340-AFCB9759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F9EC-ABBB-4A91-9599-110B3D4A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BBFD7-E921-45C2-9795-DDA4976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503A-A878-41E7-AC7D-A41149B4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856D-E86A-4549-B69B-BDCBB704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DD6C-89FF-4F4D-96D2-6857A9A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AB61-B0A6-45FE-B95E-4DE1ADD9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94F4-1818-40EA-950B-E2E3503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FB3EE-539C-483E-A046-1855E14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D66B2-0267-4A3E-BD70-74A8434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D30C-81AE-4D45-9D7E-0B44F288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7F9E-644C-4EC2-8CE8-DD2FAA21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8004-FABB-43D9-9DE1-591C1C61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4731-CB95-4EC7-973B-569FA60B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90E2E-7C94-402B-9FA2-F0ED290D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FBC-BE00-4C80-9CF4-F85A7B8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9DCD-B0F1-40C0-B91D-2F497C21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AD722-F1F9-48DD-97FC-53E3393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15DE-E09D-4525-B13A-EA17121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E061-F86E-4079-AB59-11A7ADEF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E1A9E-AB7C-4638-892B-8C7A7764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1848-1B4A-4B19-876D-CC1C8A98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D194-1C70-499F-BBCB-4B2724BF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8CAC-E90C-412A-9E65-B318CAEA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5639D-0E4F-44A1-9860-452ED0EC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0DD30-31C2-4C26-869F-8FE01584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CB7-58E3-4A95-9E3A-8ADFD146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23D2-1BF4-49D1-90A5-250B7E94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BCA2-B6F9-479E-80B3-AAF9852B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9D11A-EF63-4600-9E4E-3111B93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F477B-5D2F-4ECB-BA26-B705161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241D4-786D-4B49-948F-F9F1032B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391F9-9094-4515-BCBA-97639336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B2C94-08F9-4011-A00F-95060A01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2AB9-2961-41C7-ABD8-3EF59BA8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1513E-86E6-4AD4-B498-B7042DD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76147-2F77-4782-9DA2-AA69156B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12A-D451-4E21-829B-68B31540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C1F96-D4AA-440C-B2FD-F4EC548F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D23B-95FD-478A-B9B0-7DABF020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83E4D-1864-4065-B227-7CCDAE67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6A9-00DE-48C6-BC8D-D9F5C07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E84-E5F1-4EBB-9948-0A6F877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5A5-604E-4179-B86E-5438DA0EA1A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A6AF-BF7B-41F3-9733-7C8F129714C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D1FC-4848-470C-9059-924E6E1BB81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EB2E-B959-4ED3-A2FE-3BACFB27543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D3ED-86D3-4E1E-B8FC-7353B013189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02B7-C17C-4041-9D0E-FA8A4C65D0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B33-36DF-4E19-9D45-ABF977B92AC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692-C760-4207-8FD2-98188F3F80E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64C7-BB18-4912-BDCF-4CC64FB4C50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64A1-7BCA-4B8D-B9D9-D1D4BA8B63C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7F1-3CEA-4347-B383-DDAB15CC1DE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B00-DBF4-447A-A823-893EE14751D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1522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119160" y="692280"/>
            <a:ext cx="11737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de dezembro/2017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Imagem 1" descr=""/>
          <p:cNvPicPr/>
          <p:nvPr/>
        </p:nvPicPr>
        <p:blipFill>
          <a:blip r:embed="rId1"/>
          <a:stretch/>
        </p:blipFill>
        <p:spPr>
          <a:xfrm>
            <a:off x="0" y="1276200"/>
            <a:ext cx="121921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299880" y="692280"/>
            <a:ext cx="1083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Imagem 1" descr=""/>
          <p:cNvPicPr/>
          <p:nvPr/>
        </p:nvPicPr>
        <p:blipFill>
          <a:blip r:embed="rId1"/>
          <a:stretch/>
        </p:blipFill>
        <p:spPr>
          <a:xfrm>
            <a:off x="0" y="1297080"/>
            <a:ext cx="1219212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34800" y="638172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334800" y="1268280"/>
            <a:ext cx="115221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3480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7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2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263520" y="6399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7 estimado de acordo com a Grade de Parâmetros da SPE/MF de 12/201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63520" y="692280"/>
            <a:ext cx="11449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407880" y="1052640"/>
            <a:ext cx="1144908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34800" y="692280"/>
            <a:ext cx="1080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2192120" cy="54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0" y="674640"/>
            <a:ext cx="121921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6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7 e Dezembro/20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520" y="963720"/>
            <a:ext cx="12144600" cy="54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34800" y="692280"/>
            <a:ext cx="1080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Pagos pela Previdência Social (2010 a 2017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118260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a Previdência Social atingiu R$ 1.365,26, na média de janeiro a dezembro de 2017, o que representou um crescimento de 11,6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 flipV="1">
            <a:off x="3287880" y="5229000"/>
            <a:ext cx="327492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"/>
          <p:cNvSpPr/>
          <p:nvPr/>
        </p:nvSpPr>
        <p:spPr>
          <a:xfrm flipH="1">
            <a:off x="7608960" y="2322360"/>
            <a:ext cx="3527280" cy="2770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119160" y="1658880"/>
            <a:ext cx="1180944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252360" y="765000"/>
            <a:ext cx="10874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6, Novembro/2017, Dezembro/2017 e Acumulado no an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252360" y="646740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0" y="1198440"/>
            <a:ext cx="12192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5440" y="6296040"/>
            <a:ext cx="663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Imagem 1" descr=""/>
          <p:cNvPicPr/>
          <p:nvPr/>
        </p:nvPicPr>
        <p:blipFill>
          <a:blip r:embed="rId1"/>
          <a:stretch/>
        </p:blipFill>
        <p:spPr>
          <a:xfrm>
            <a:off x="325440" y="1270080"/>
            <a:ext cx="1145844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334800" y="69228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3 a 2017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34800" y="641520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7 estimado de acordo com a Grade de Parâmetros da SPE/MF de 12/2017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1152216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04920" y="692280"/>
            <a:ext cx="1104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6, Novembro e Dezembro de 2017 e Acumulado no ano  (2016 e 2017) – Em R$ milhões de dezembro/2017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11040" y="645804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4680" y="1268280"/>
            <a:ext cx="12192120" cy="51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6, Novembro e Dezembro de 2017 e Acumulado no ano (2016 e 2017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34800" y="6453360"/>
            <a:ext cx="309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628640"/>
            <a:ext cx="121921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4800" y="64119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7) – Em R$ Bilhões de dezembr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15221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8-02-05T12:49:17Z</dcterms:modified>
  <cp:revision>389</cp:revision>
  <dc:subject/>
  <dc:title>Demografia</dc:title>
</cp:coreProperties>
</file>